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500-FBFF-4808-80A2-372C6757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DF1-FFFF-4141-842B-8B64DC34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94A-603B-41C5-87AD-3437662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73E-FD92-49EB-B941-D9AFC6F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FD3-BC7A-463A-B7A5-6D4BEF6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1F9-E0B4-46F5-B7AB-7846C610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60C-EBD1-4738-9BB4-A5796978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F31-28EA-45D8-981C-C06EF43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B798-B5AB-4CE1-A8CC-9EEF099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D74-057E-4BC4-AE1C-EB210925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BD1-DAEE-4634-8B5D-88A52BC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FF9-3439-4F44-B91D-07D9EC5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4FBC-01B6-4822-81BB-AB3D5FC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AC2-1D77-4703-A974-C12CCA1B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68D0-AA35-48F5-BE96-FA313CE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975-A517-426A-8A42-6152EAA8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8428-1B2B-4913-9F8D-11E9D68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BFA5-B98A-447E-B409-60553395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E0C-F385-4764-A004-7379C5F5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880-35D0-4253-9372-54ED819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84E-5172-4002-B318-D5B8C8F0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F9E-F6A4-487C-B123-E1BA969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425-142E-46E6-8BF1-C06A6FB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496-7D20-4F02-81CE-8E666CE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99A-D9D4-43F1-AC8D-98F9E01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0D6-0480-4301-8372-FBB3630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36C1-680E-45D4-95B4-37217274D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E89-9B4C-481E-8E9D-8FA128584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33526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LORI</cp:lastModifiedBy>
  <dcterms:modified xsi:type="dcterms:W3CDTF">2010-05-30T14:42:54Z</dcterms:modified>
  <cp:revision>13</cp:revision>
  <dc:subject/>
  <dc:title>Published Test Instrument Critique WIAT</dc:title>
</cp:coreProperties>
</file>